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22911"/>
        <c:axId val="70455056"/>
      </c:barChart>
      <c:catAx>
        <c:axId val="48122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55056"/>
        <c:crosses val="autoZero"/>
        <c:auto val="1"/>
        <c:lblAlgn val="ctr"/>
        <c:lblOffset val="100"/>
        <c:noMultiLvlLbl val="0"/>
      </c:catAx>
      <c:valAx>
        <c:axId val="70455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22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56B-EA80-4F24-872B-B059DB67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D86-2305-40CC-83A9-DAD42543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4BE-0F14-4278-B454-3FDBF352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769-06B8-475F-AAAB-F4E53051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755-4BF0-442A-A36F-4A1E581D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C59-5747-48FE-8437-471D1CCC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B34-F960-460A-94C3-9FBD34F5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136-66EB-4BAE-AC89-6FAF569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86B-7168-4CEB-A1E4-9BC97E6C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E88-32C1-4E3C-A41D-28341349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BB4-05D7-4DC5-9CC3-4E9E6E1D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B95-0845-4428-8344-4EF75CCE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EEFBC-768D-41DD-BC0C-D0AB7DB808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