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16921"/>
        <c:axId val="14944812"/>
      </c:barChart>
      <c:catAx>
        <c:axId val="33816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44812"/>
        <c:crosses val="autoZero"/>
        <c:auto val="1"/>
        <c:lblAlgn val="ctr"/>
        <c:lblOffset val="100"/>
        <c:noMultiLvlLbl val="0"/>
      </c:catAx>
      <c:valAx>
        <c:axId val="14944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16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575-85C6-46FF-A288-570ECDFF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C0E-FE61-4D0B-9AAB-64838F1C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40BC-1F8B-4596-B2A2-23A52BB4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600-1E42-4BF7-A3CE-6176AA5B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B1C-CEFB-410B-87E5-FB99686A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3A2-87D9-4880-9370-7D3FD85D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A4A-D414-4696-BF83-952119D2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FD4-6C4B-450C-9E55-6F51FCCB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012-60F4-4CC4-8399-BB12DC9D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386-FDA9-455D-8220-B19BBE94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B49-0048-40D9-81C5-B4D5EE9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EEF-A83A-4B44-95A0-D9CDFA63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EC3DE-6A03-4206-AABA-99B09A6F05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