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148374"/>
        <c:axId val="24219597"/>
      </c:barChart>
      <c:catAx>
        <c:axId val="421483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19597"/>
        <c:crosses val="autoZero"/>
        <c:auto val="1"/>
        <c:lblAlgn val="ctr"/>
        <c:lblOffset val="100"/>
        <c:noMultiLvlLbl val="0"/>
      </c:catAx>
      <c:valAx>
        <c:axId val="242195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483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EB0B-33AC-47A6-BB15-59C4C63E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4238-766D-4EA6-879E-385F409F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B90A-0A6E-4D8F-9EA3-FC297846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C1EA-5F47-4BD7-A5F5-98C618F2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D637-6E20-479A-9DC0-D23DEEBC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81D8-49C4-4038-89D5-095F8218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C336-9B71-42EE-80DE-D3138358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1989-9D68-4D5F-948A-8CE70EDD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1C37-B868-45E3-8411-B733338A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ED9B-F425-4E23-97E8-88061126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E972-0C72-4382-884C-EF631AA8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F947-10B5-40EA-8390-317A847C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6960F-6F82-4772-9512-4546BDC8C1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