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3901"/>
        <c:axId val="8440994"/>
      </c:barChart>
      <c:catAx>
        <c:axId val="53753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994"/>
        <c:crosses val="autoZero"/>
        <c:auto val="1"/>
        <c:lblAlgn val="ctr"/>
        <c:lblOffset val="100"/>
        <c:noMultiLvlLbl val="0"/>
      </c:catAx>
      <c:valAx>
        <c:axId val="8440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3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6FD-8155-4120-80E5-AAD98772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E43-2C33-4F3C-8251-35DE6257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E61-4D4A-40DF-BCB2-A561CE4A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010-DD4B-48A4-BD3E-F9C0FAB8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FD8-C84F-4730-999B-29D5281C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0DB-E4A3-426B-99B3-5EE20AF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08D-AB13-4DD4-A431-06CBF24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2FF-7F1E-446F-B492-0C7C46B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F16-9566-4AD0-927F-0256649C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245-7FB1-4438-9288-9B0D90B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59E-F6D2-4816-A3B0-485EA1B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904-9029-4689-940C-133B6E7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C1455-AB75-44ED-A43C-633CF1D67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