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17300"/>
        <c:axId val="61231902"/>
      </c:barChart>
      <c:catAx>
        <c:axId val="34817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31902"/>
        <c:crosses val="autoZero"/>
        <c:auto val="1"/>
        <c:lblAlgn val="ctr"/>
        <c:lblOffset val="100"/>
        <c:noMultiLvlLbl val="0"/>
      </c:catAx>
      <c:valAx>
        <c:axId val="6123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17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89B-2A65-4F96-9CB5-4BE9B9CD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0A3-5C0C-4505-8D3D-3723E6DD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BD3-D353-45A9-B206-1B07EE49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0AA-F291-4132-8827-6922A780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036-4B26-411C-AD2B-EABFDF0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27E-AC23-4278-A606-89A234DB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85D-B958-4751-897E-F6EF2675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BCE-A3AF-4659-9B2E-6D287D5C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E12-7714-4FF0-8967-036AE572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306-35FB-4B0D-97C1-558B9B8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624-A43A-495E-85E7-CBBB67E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F7B-7D2E-4A3D-BA0B-64C6AA2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E31E8-2959-46ED-BF7E-16AD7D90ED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