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889047"/>
        <c:axId val="8449786"/>
      </c:barChart>
      <c:catAx>
        <c:axId val="838890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9786"/>
        <c:crosses val="autoZero"/>
        <c:auto val="1"/>
        <c:lblAlgn val="ctr"/>
        <c:lblOffset val="100"/>
        <c:noMultiLvlLbl val="0"/>
      </c:catAx>
      <c:valAx>
        <c:axId val="84497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890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4B22-C29E-4900-9525-733DB76C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8747-5D03-4B8F-9F01-FE738A40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8E7F-844A-4981-A85E-9A080355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67B1-BAEC-4861-89FA-BCD64CC7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D3B2-8F95-4FEC-9539-2AF6C629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6E7F-49D2-4EB6-9F3D-2EB5D206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666A-085B-406A-AC6B-E1494719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7345-E05E-47CE-935C-2EB21B24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C579-F212-4ABD-8ADF-6A1805AA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E7D9-4733-4D2B-BDB6-1F027BEC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99D5-FE97-4AE9-A494-658FAC9E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A8E5-6E32-425C-B1A8-6813FEEB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1E683-0DDC-487D-A281-6B1E86F56D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