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617500"/>
        <c:axId val="30501304"/>
      </c:barChart>
      <c:catAx>
        <c:axId val="396175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01304"/>
        <c:crosses val="autoZero"/>
        <c:auto val="1"/>
        <c:lblAlgn val="ctr"/>
        <c:lblOffset val="100"/>
        <c:noMultiLvlLbl val="0"/>
      </c:catAx>
      <c:valAx>
        <c:axId val="305013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175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F668-904D-4BD3-8DDF-4314CCE01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B79D-38C7-4065-821E-8093534D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F19C-5D9E-4662-8F43-95F5CD34A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D78B-CB2A-4569-AEF3-1E2D72986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BCF2-768F-431A-914F-0AB40279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A09B-86C3-49E8-9E17-291AF0C3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55F8-C2C3-4B74-829D-D1F27A0C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814C-5B05-49A0-AEF5-05E46BCF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B479-F3DF-4469-AB40-6B64ACB7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3C56-91B3-4648-A5A0-E395F0C9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ACAE-BDF2-45B6-B6AA-85220C6A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6AF3-ED88-4E22-BFC0-2800C12C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D11DD-3663-4638-80B7-025CD0D8E3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