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44097"/>
        <c:axId val="20198258"/>
      </c:barChart>
      <c:catAx>
        <c:axId val="94844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98258"/>
        <c:crosses val="autoZero"/>
        <c:auto val="1"/>
        <c:lblAlgn val="ctr"/>
        <c:lblOffset val="100"/>
        <c:noMultiLvlLbl val="0"/>
      </c:catAx>
      <c:valAx>
        <c:axId val="20198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44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BCD-7174-450C-BECB-94CE9432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892-4D81-4426-A23E-7ED50FB9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027-69CB-4213-9938-9AED954F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6DD-55FF-4343-83D5-81AAB8EA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EE1-1191-4F86-9CD6-B1E4DFD8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C94-62C8-4E76-8DAD-6F836D9A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D2D-95CC-4BD1-BDE9-40326343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8BC-D78E-415E-AD8D-F5D1085E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AD3D-4332-4AE9-A54E-77E236F9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284-A259-4525-8884-484E36E0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756E-8859-4DBB-B096-60FFC0B7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B15-E80B-4167-BFF0-E71BAD89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3922C-8084-4687-B9F8-4034FDC3B7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