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53343"/>
        <c:axId val="89293419"/>
      </c:barChart>
      <c:catAx>
        <c:axId val="25953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93419"/>
        <c:crosses val="autoZero"/>
        <c:auto val="1"/>
        <c:lblAlgn val="ctr"/>
        <c:lblOffset val="100"/>
        <c:noMultiLvlLbl val="0"/>
      </c:catAx>
      <c:valAx>
        <c:axId val="89293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53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076-42F7-47EC-9BC0-90E2D9BC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9E4-05CA-4C7C-A894-4F7243B4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2A3-DD81-42E7-B503-514EC363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A5C-CD8F-4950-ABCF-C5F29150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CE2-5DDE-4E1D-94F1-1EE14DD2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0FB-BB6B-42D2-B51A-9DD61C7F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EC6-3071-443B-A6D8-1814FC8C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555-94BB-48E4-8C49-DC5A51D6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4AF-D42F-4C0E-A640-CB1133C7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DFB-576D-49EA-A0D8-453DDD07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333-DA5C-4D86-9899-B7125180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22E-6991-4E77-94BC-FE56750B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A7980-1963-4502-BE5B-731A1A2AD5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