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19621"/>
        <c:axId val="80203365"/>
      </c:barChart>
      <c:catAx>
        <c:axId val="49519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03365"/>
        <c:crosses val="autoZero"/>
        <c:auto val="1"/>
        <c:lblAlgn val="ctr"/>
        <c:lblOffset val="100"/>
        <c:noMultiLvlLbl val="0"/>
      </c:catAx>
      <c:valAx>
        <c:axId val="80203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19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817-3199-4749-91DA-319AEF3A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CCB-8A2B-4D59-BE1C-00015DAD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6AB-B1BA-4E7F-BD42-D443B128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29A-A671-4644-939F-76E18439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461-51F1-4FF9-9B2F-E40E2206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467-57B4-46E9-AA37-15EF12C3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456-1E43-458A-AAAE-0C7D6C7E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48F-6ED0-4A44-B71A-D8744E0E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067-8911-41E1-A588-B4EED555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16D-79C4-458D-AC66-C9D0D71B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1B5-6DA4-4289-9D5D-D20BD4B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9D0-0DE8-480D-8FB4-156204F2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6F600-FA64-4BA8-B97D-7076268E3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