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65015"/>
        <c:axId val="20080383"/>
      </c:barChart>
      <c:catAx>
        <c:axId val="69665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0383"/>
        <c:crosses val="autoZero"/>
        <c:auto val="1"/>
        <c:lblAlgn val="ctr"/>
        <c:lblOffset val="100"/>
        <c:noMultiLvlLbl val="0"/>
      </c:catAx>
      <c:valAx>
        <c:axId val="20080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5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5C4-0992-4C68-BDDC-3CB27273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215-30B9-46CD-9358-F85D962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0AE-EC2B-42DD-8434-9F3EFB5B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16F-1751-4C2C-98DE-527FB83E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900-3C30-41B8-9A36-6497D6E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2FD-9656-4375-AC2E-8E7046FA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0B1-4084-4CA1-97A6-664FBBD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584-F219-4863-A4C2-D3F0C20A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F9A-0C5B-4070-9F28-18768860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0D0-26B6-4406-BB73-AFBF1146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D6E-E3B6-4576-BC65-5E652791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808-820E-461E-B35E-E91CD72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5784-572D-4656-A9B9-F8200AB2D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