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10817"/>
        <c:axId val="27652956"/>
      </c:barChart>
      <c:catAx>
        <c:axId val="30910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2956"/>
        <c:crosses val="autoZero"/>
        <c:auto val="1"/>
        <c:lblAlgn val="ctr"/>
        <c:lblOffset val="100"/>
        <c:noMultiLvlLbl val="0"/>
      </c:catAx>
      <c:valAx>
        <c:axId val="27652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0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BA3-E57E-4E32-96E9-5E4F1CF1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54E-A535-4875-95B7-286F688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C71-50DC-49DA-A64C-B247F216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452-D740-4BAE-91C1-7E2BE79B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B39-86E3-47E0-9279-4610B7CD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BAC-090A-49AE-AF1F-DB8E053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8B0-28B0-4A36-A6A2-0D6B7F5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BB8-28AC-4B3F-A478-1BA730A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009-31E5-49EE-9DB2-ADF1E96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C03-E70C-4C64-B3F4-FA91D98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8DF-323E-4A32-9418-E15802F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FEE-1E53-4758-933B-D8FF14A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49E8E-34B0-4B8D-AA82-85AB1E0C5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