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89667"/>
        <c:axId val="49663592"/>
      </c:barChart>
      <c:catAx>
        <c:axId val="7838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3592"/>
        <c:crosses val="autoZero"/>
        <c:auto val="1"/>
        <c:lblAlgn val="ctr"/>
        <c:lblOffset val="100"/>
        <c:noMultiLvlLbl val="0"/>
      </c:catAx>
      <c:valAx>
        <c:axId val="49663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8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19F-37E4-4947-AA4F-A3B5D22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C3F-E816-4F7C-80FF-2DC3C86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BB4-B367-4F02-ACF2-5B5872C1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328-69B3-4FDA-B0B3-EEC7108B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B60-9C3C-4E34-B190-484D256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9CF-DD20-445B-9D5C-EBD250E7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523-444E-44F3-B0A7-A435970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528-A239-492E-AAD8-8B029874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A33-6212-4434-B901-C5D8455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252-DEBA-49AC-A94D-E00A93A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885-A7BD-4CA4-BE8E-A617CDE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7C0-0470-4E96-919D-CE65FF6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B693E-EEFF-41E1-AE30-CD98CAC10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